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8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27.jpeg" ContentType="image/jpeg"/>
  <Override PartName="/ppt/media/image6.jpeg" ContentType="image/jpeg"/>
  <Override PartName="/ppt/media/image11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3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D5F-9CD5-443F-9A7B-46602DAA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A2F6-563E-4640-BC54-24D27D01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E1E-D88B-40A2-A3F3-94E37643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FFB-EC95-4D77-956E-421F658E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32FE-01B5-4154-9189-1C2ECD08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64FF-F1B6-4345-B8B0-1CDC8B3C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0FEB-8F89-4976-94D1-4BF7387A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4075-2395-42E8-B19F-9D42E443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5358-520F-48CD-8474-18E6C989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9B8C-8159-4371-A37A-3C7BA984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22AA-B18B-48DD-B572-12F87ADA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7C4-40FB-4BA8-97E8-F682614C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D5B4-709E-4488-BF85-3CA8C317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68DF-045F-42DC-A092-05D28CD7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F2B4-9F84-4FD6-9BDD-F2B40232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4874-F361-4697-913C-70F66285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E061-896C-42E2-9A3C-A5544E18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57A62-1BB4-47D7-A3D6-E92946A0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24FDB-7758-49C5-9A22-96BAC9E3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9C029-CD8E-466A-8DCB-E015F2A2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F3EA7-AD32-46A2-9E52-B0BDF4BC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DDBE7-0056-44E4-A970-62673EAF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B92-41E0-48F4-8CB4-3F26B1A0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CEE87-D37E-4BB9-8DF8-38745C0B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0BB9-F8C7-4410-887B-41E15E2D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1E580-C2C7-4959-B01C-F9E320F4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1982E-2F27-4B53-88BD-CCADED98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DAB1C-AD24-42EC-98AB-EE6689F4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8BDAC-A8E9-4449-85BD-2B918C6B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290AE-E8A9-476B-81B8-D1B89D3D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65634-48F0-4BFD-AA78-A5F79447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871C2-2571-478E-BEB5-21B8FAC6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043AD-8E8A-4BE9-B806-E7593D02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0B8-68A4-455E-835C-D5A0C102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B2040-C424-4D75-B78E-5A2DC846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0433F-8525-4A90-B589-27C75559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854C9-28C2-4D17-A171-54358DE0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4530A-38D9-4ABA-BECA-9C3EFC5D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B0F6C-F71E-4375-AD34-ACD31FAE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E57AA-E408-4A5D-A9BC-02814A8B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BFE47-9711-480A-959B-647DBA2C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8F862-60F0-43CC-B4A4-0430725E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DE5B2-2B32-4343-BD1B-CDAADC8B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0A584-35D0-4D22-9B53-85003E73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536-9C49-4494-9DA5-981C0F73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FA3F0-6808-4CB2-8C01-0565B5E2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B6137-1FD8-4B0F-BA59-01853E25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2558B-EED6-44DC-825E-0E47A3FC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FBEEF-A543-41A2-B020-1653A858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FFC53-FA57-44D2-806F-B6D92B10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C951F-4A07-4474-B214-5AA6BFC0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32704-052A-4852-9C19-F8388768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881FF-5BA8-4AA2-93CE-F6C64982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0C15B-A2EF-415E-B03B-67DCC6CD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32EDB-9B68-4A94-8CD7-265224F4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4A2-5A04-46BA-8FA4-53170932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53B92-DB17-4D45-8369-A686CD0E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F24E2-EB8B-4C1B-BCE9-AB2F4076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67789-40FB-4D77-BBE2-DD61119C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64120-447A-4F7C-AE9A-2D275516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B1C6B-C863-49BE-9DCC-676D9E02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B8368-B975-40C4-BC9A-E22DE69B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79AA5-F89C-433F-B9CD-251240C1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C0CF0-F6CC-49F6-94D3-D965A039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007D5-1060-4365-A8FA-E977AB08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D24C5-4547-45CA-9275-2CD5A2C8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06A-ADD4-43C1-A3F9-99F42983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BE868-D9B8-43D7-B4C7-14FFD2B2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14C31-8FE0-4246-B958-B847FBBA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6832F-0858-4651-8C4E-8849EFA4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EE534-2677-42F3-9CF0-1F5873EA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8F103-D6F8-4A66-9DBE-ECDC91E8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34EA0-CB80-4F1A-85B6-6412A373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ACB3E-37C5-4989-AA6B-BDB2FABC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29C86-A33E-4940-B92C-6CBCEF3B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E8D10-ADE6-444F-A139-5628C6F3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66565-478C-4346-935E-744643B9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18E-1857-401B-9AAD-95D7C1F9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B42B4-1163-4761-A784-9CE2D31B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9C7A2-EA14-48AD-9D0C-1CF696F6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BF1C0-2F14-4BAE-A0B5-3337A6A9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75938-5EEF-417A-A081-C0AB585D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98E69-D9B0-4CF6-AF4D-26E5C5DE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44707-AED3-4123-9AD0-26D07380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7D58B-57CE-410A-BEB6-BA8D739A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D7D99-453F-4B31-A46D-324C917F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6D94B-C09D-4338-9BB9-3B5AD869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C6E40-8BAA-46C2-8154-847171D4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024-2740-4F75-A6C1-7166A618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AC5AD-4A4B-4C8E-AF92-38CB3356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544FF-30D4-4BF4-8BFA-5F864DA4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79F87-9D31-4624-A1ED-CAE20711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39130-EBD6-4999-80B9-69635565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C6D0F-4ED1-4806-A90E-9554D299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5FF88-8932-4AB3-9262-0C16520D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0A0E4-8390-4AF3-9962-2A3B3F47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77EA-485A-449D-BFE7-062029E3FFE5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94d00"/>
              </a:gs>
              <a:gs pos="50000">
                <a:srgbClr val="ff8934"/>
              </a:gs>
              <a:gs pos="100000">
                <a:srgbClr val="c94d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fcb79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57B8-B49A-42F0-8279-8BA8D1E54DC4}" type="slidenum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9B54-EF1A-4D79-A28B-63A51FA196F8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E727-2701-4A53-833B-70ABBBBE06F0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0796-4E46-4F36-86E7-D4D19A6C0A69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14DC-60EA-4A44-9789-3C4151D32B72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39A5-2F5A-40A6-8F91-F3BC2C5DDE51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C821-81E5-46A6-AC12-049A582313F1}" type="slidenum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juntadeandalucia.es/medioambiente/" TargetMode="External"/><Relationship Id="rId2" Type="http://schemas.openxmlformats.org/officeDocument/2006/relationships/hyperlink" Target="http://www.marm.es/portal/secciones/biodiversidad/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059680" cy="2859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14240" y="400032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23232"/>
                </a:solidFill>
                <a:latin typeface="Lucida Sans Unicode"/>
              </a:rPr>
              <a:t>Marta Camino Serran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23232"/>
                </a:solidFill>
                <a:latin typeface="Lucida Sans Unicode"/>
              </a:rPr>
              <a:t>Alberto Jiménez Gómez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857160" y="6072120"/>
            <a:ext cx="1317600" cy="511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3"/>
          <a:stretch/>
        </p:blipFill>
        <p:spPr>
          <a:xfrm>
            <a:off x="2286000" y="6072120"/>
            <a:ext cx="1617840" cy="558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4"/>
          <a:stretch/>
        </p:blipFill>
        <p:spPr>
          <a:xfrm>
            <a:off x="4000680" y="5929200"/>
            <a:ext cx="1514160" cy="716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5"/>
          <a:stretch/>
        </p:blipFill>
        <p:spPr>
          <a:xfrm>
            <a:off x="0" y="5786280"/>
            <a:ext cx="777960" cy="846360"/>
          </a:xfrm>
          <a:prstGeom prst="rect">
            <a:avLst/>
          </a:prstGeom>
          <a:ln w="0">
            <a:noFill/>
          </a:ln>
        </p:spPr>
      </p:pic>
      <p:pic>
        <p:nvPicPr>
          <p:cNvPr id="376" name="7 Imagen" descr="rosmarinustomentosus2.jpg"/>
          <p:cNvPicPr/>
          <p:nvPr/>
        </p:nvPicPr>
        <p:blipFill>
          <a:blip r:embed="rId6"/>
          <a:stretch/>
        </p:blipFill>
        <p:spPr>
          <a:xfrm>
            <a:off x="5214960" y="0"/>
            <a:ext cx="3929040" cy="1622520"/>
          </a:xfrm>
          <a:prstGeom prst="rect">
            <a:avLst/>
          </a:prstGeom>
          <a:ln w="0">
            <a:noFill/>
          </a:ln>
        </p:spPr>
      </p:pic>
      <p:sp>
        <p:nvSpPr>
          <p:cNvPr id="377" name="9 CuadroTexto"/>
          <p:cNvSpPr/>
          <p:nvPr/>
        </p:nvSpPr>
        <p:spPr>
          <a:xfrm>
            <a:off x="5682960" y="6286680"/>
            <a:ext cx="34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.O. Restauración Eco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5214960" y="1285560"/>
            <a:ext cx="42148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Lucida Sans Unicode"/>
              </a:rPr>
              <a:t>Variabilidad genética interpoblacional: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¿Mezcla de material genético de toda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las poblaciones o sólo de las más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afines?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Lucida Sans Unicode"/>
              </a:rPr>
              <a:t>Tras el estudio poblacional…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Poblaciones estudiadas muestran estabilidad (</a:t>
            </a:r>
            <a:r>
              <a:rPr b="0" lang="el-GR" sz="1400" spc="-1" strike="noStrike">
                <a:solidFill>
                  <a:srgbClr val="000000"/>
                </a:solidFill>
                <a:latin typeface="Lucida Sans Unicode"/>
              </a:rPr>
              <a:t>λ≃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1) pero necesidad de medidas de conservació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¿Es correcto destinar recursos a las poblaciones menos estudiadas en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lugar de hacer refuerzos en las ya investigadas para asegurarnos el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éxito?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2"/>
          <a:stretch/>
        </p:blipFill>
        <p:spPr>
          <a:xfrm>
            <a:off x="285840" y="1571760"/>
            <a:ext cx="50720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4 Flecha derecha"/>
          <p:cNvSpPr/>
          <p:nvPr/>
        </p:nvSpPr>
        <p:spPr>
          <a:xfrm>
            <a:off x="2428920" y="1714680"/>
            <a:ext cx="1214280" cy="28548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5 Imagen" descr="ordenador.jpg"/>
          <p:cNvPicPr/>
          <p:nvPr/>
        </p:nvPicPr>
        <p:blipFill>
          <a:blip r:embed="rId2"/>
          <a:stretch/>
        </p:blipFill>
        <p:spPr>
          <a:xfrm>
            <a:off x="7072200" y="3214800"/>
            <a:ext cx="1143000" cy="1154160"/>
          </a:xfrm>
          <a:prstGeom prst="rect">
            <a:avLst/>
          </a:prstGeom>
          <a:ln w="0">
            <a:noFill/>
          </a:ln>
        </p:spPr>
      </p:pic>
      <p:sp>
        <p:nvSpPr>
          <p:cNvPr id="425" name="6 Flecha derecha"/>
          <p:cNvSpPr/>
          <p:nvPr/>
        </p:nvSpPr>
        <p:spPr>
          <a:xfrm rot="3622200">
            <a:off x="6031440" y="2455200"/>
            <a:ext cx="1214280" cy="28548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7 Imagen" descr="interr.jpg"/>
          <p:cNvPicPr/>
          <p:nvPr/>
        </p:nvPicPr>
        <p:blipFill>
          <a:blip r:embed="rId3"/>
          <a:stretch/>
        </p:blipFill>
        <p:spPr>
          <a:xfrm>
            <a:off x="4000680" y="1214280"/>
            <a:ext cx="1123920" cy="1057320"/>
          </a:xfrm>
          <a:prstGeom prst="rect">
            <a:avLst/>
          </a:prstGeom>
          <a:ln w="0">
            <a:noFill/>
          </a:ln>
        </p:spPr>
      </p:pic>
      <p:sp>
        <p:nvSpPr>
          <p:cNvPr id="427" name="10 Flecha izquierda"/>
          <p:cNvSpPr/>
          <p:nvPr/>
        </p:nvSpPr>
        <p:spPr>
          <a:xfrm>
            <a:off x="5429160" y="3500280"/>
            <a:ext cx="928800" cy="357480"/>
          </a:xfrm>
          <a:prstGeom prst="leftArrow">
            <a:avLst>
              <a:gd name="adj1" fmla="val 50000"/>
              <a:gd name="adj2" fmla="val 49967"/>
            </a:avLst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11 Imagen" descr="objetivos.jpg"/>
          <p:cNvPicPr/>
          <p:nvPr/>
        </p:nvPicPr>
        <p:blipFill>
          <a:blip r:embed="rId4"/>
          <a:stretch/>
        </p:blipFill>
        <p:spPr>
          <a:xfrm>
            <a:off x="3786120" y="2857680"/>
            <a:ext cx="1162080" cy="1133280"/>
          </a:xfrm>
          <a:prstGeom prst="rect">
            <a:avLst/>
          </a:prstGeom>
          <a:ln w="0">
            <a:noFill/>
          </a:ln>
        </p:spPr>
      </p:pic>
      <p:sp>
        <p:nvSpPr>
          <p:cNvPr id="429" name="12 Flecha izquierda"/>
          <p:cNvSpPr/>
          <p:nvPr/>
        </p:nvSpPr>
        <p:spPr>
          <a:xfrm rot="20148000">
            <a:off x="2157120" y="3692160"/>
            <a:ext cx="1000080" cy="285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13 CuadroTexto"/>
          <p:cNvSpPr/>
          <p:nvPr/>
        </p:nvSpPr>
        <p:spPr>
          <a:xfrm>
            <a:off x="443520" y="4071960"/>
            <a:ext cx="218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lección 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Material gen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Método de cul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Edad de individu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16 Rectángulo"/>
          <p:cNvSpPr/>
          <p:nvPr/>
        </p:nvSpPr>
        <p:spPr>
          <a:xfrm>
            <a:off x="1857240" y="578628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cripción del proceso de establ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17 Flecha derecha"/>
          <p:cNvSpPr/>
          <p:nvPr/>
        </p:nvSpPr>
        <p:spPr>
          <a:xfrm>
            <a:off x="4714920" y="5929200"/>
            <a:ext cx="1214280" cy="28584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18 Rectángulo"/>
          <p:cNvSpPr/>
          <p:nvPr/>
        </p:nvSpPr>
        <p:spPr>
          <a:xfrm>
            <a:off x="5929200" y="5786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an de monitorización y segu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19 Rectángulo"/>
          <p:cNvSpPr/>
          <p:nvPr/>
        </p:nvSpPr>
        <p:spPr>
          <a:xfrm>
            <a:off x="684360" y="242100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úsque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ibliográ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20 Rectángulo"/>
          <p:cNvSpPr/>
          <p:nvPr/>
        </p:nvSpPr>
        <p:spPr>
          <a:xfrm>
            <a:off x="5214960" y="135720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c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po de re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21 Rectángulo"/>
          <p:cNvSpPr/>
          <p:nvPr/>
        </p:nvSpPr>
        <p:spPr>
          <a:xfrm>
            <a:off x="6819840" y="457200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de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ográf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26 Flecha derecha"/>
          <p:cNvSpPr/>
          <p:nvPr/>
        </p:nvSpPr>
        <p:spPr>
          <a:xfrm rot="2287800">
            <a:off x="1149480" y="5430960"/>
            <a:ext cx="803160" cy="2984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27 CuadroTexto"/>
          <p:cNvSpPr/>
          <p:nvPr/>
        </p:nvSpPr>
        <p:spPr>
          <a:xfrm>
            <a:off x="3371040" y="400068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3 Imagen" descr="libro.jpg"/>
          <p:cNvPicPr/>
          <p:nvPr/>
        </p:nvPicPr>
        <p:blipFill>
          <a:blip r:embed="rId5"/>
          <a:stretch/>
        </p:blipFill>
        <p:spPr>
          <a:xfrm>
            <a:off x="900000" y="1413000"/>
            <a:ext cx="11908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ibro Rojo 2000 de la Flora Vascular Españo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ibro Rojo 2008 de la Flora Vascular Españo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ibro Rojo de la Flora Silvestre Amenazada de Andalucí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oblaciones en peligro: Viabilidad de la Flora Vascular Amenazada de España (200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 u="sng">
                <a:solidFill>
                  <a:srgbClr val="6b9f25"/>
                </a:solidFill>
                <a:uFillTx/>
                <a:latin typeface="Lucida Sans Unicode"/>
                <a:hlinkClick r:id="rId1"/>
              </a:rPr>
              <a:t>http://www.juntadeandalucia.es/medioambiente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 u="sng">
                <a:solidFill>
                  <a:srgbClr val="6b9f25"/>
                </a:solidFill>
                <a:uFillTx/>
                <a:latin typeface="Lucida Sans Unicode"/>
                <a:hlinkClick r:id="rId2"/>
              </a:rPr>
              <a:t>http://www.marm.es/portal/secciones/biodiversidad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2 Título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28760" y="4996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osuá, J.L.,1981. Anales Jardín Botánico de Madrid 37 (2): 587-59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abezudo et al, 2004. Aportaciones a la Flora de Andalucía III. Acta Botánica Malacitana 29.200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Cabezudo, B., et al. (1998). Convenio de cooperación entre la Consejería de Medio Ambiente y la Universidad de Málaga (Departamento de Biología Vegetal) para la recuperación y desarrollo de los planes de actuación de las especies vegetales amenazadas de Andalucí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4" descr="Rosmarinus-tomentosus---Cer"/>
          <p:cNvPicPr/>
          <p:nvPr/>
        </p:nvPicPr>
        <p:blipFill>
          <a:blip r:embed="rId1"/>
          <a:srcRect l="0" t="0" r="-1027" b="11249"/>
          <a:stretch/>
        </p:blipFill>
        <p:spPr>
          <a:xfrm>
            <a:off x="3649680" y="0"/>
            <a:ext cx="549432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5"/>
          <p:cNvSpPr/>
          <p:nvPr/>
        </p:nvSpPr>
        <p:spPr>
          <a:xfrm>
            <a:off x="180720" y="1197000"/>
            <a:ext cx="46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Distribució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iología y Ecología de la espec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iesgos y agentes de perturbació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ección del tipo de restitución y Justificació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bjetiv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etodologí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Fuentes de informació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3 Imagen" descr="rosmarinustomentosus4.jpg"/>
          <p:cNvPicPr/>
          <p:nvPr/>
        </p:nvPicPr>
        <p:blipFill>
          <a:blip r:embed="rId2"/>
          <a:stretch/>
        </p:blipFill>
        <p:spPr>
          <a:xfrm>
            <a:off x="5072040" y="0"/>
            <a:ext cx="40719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00040" y="1142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700" spc="-1" strike="noStrike">
                <a:solidFill>
                  <a:srgbClr val="000000"/>
                </a:solidFill>
                <a:latin typeface="Lucida Sans Unicode"/>
              </a:rPr>
              <a:t>Rosmarinus tomentosus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endemismo franja litoral Granada y Málaga.</a:t>
            </a:r>
            <a:r>
              <a:rPr b="0" i="1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atalogación UICN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ño 2000: En Peligro Crít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ño 2008: En peligr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sociación </a:t>
            </a:r>
            <a:r>
              <a:rPr b="0" i="1" lang="es-ES_tradnl" sz="2700" spc="-1" strike="noStrike">
                <a:solidFill>
                  <a:srgbClr val="000000"/>
                </a:solidFill>
                <a:latin typeface="Lucida Sans Unicode"/>
              </a:rPr>
              <a:t>Rosmarinetum tomentosi</a:t>
            </a:r>
            <a:r>
              <a:rPr b="0" i="1" lang="es-ES_trad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s-ES_trad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Anexo I de la Directiva 92/43/CEE (Hábitats rocosos y cuevas y vegetación casmofítica de pendientes rocosa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2 Título" descr=""/>
          <p:cNvPicPr/>
          <p:nvPr/>
        </p:nvPicPr>
        <p:blipFill>
          <a:blip r:embed="rId1"/>
          <a:stretch/>
        </p:blipFill>
        <p:spPr>
          <a:xfrm>
            <a:off x="165240" y="133200"/>
            <a:ext cx="8497800" cy="1025640"/>
          </a:xfrm>
          <a:prstGeom prst="rect">
            <a:avLst/>
          </a:prstGeom>
          <a:ln w="0">
            <a:noFill/>
          </a:ln>
        </p:spPr>
      </p:pic>
      <p:pic>
        <p:nvPicPr>
          <p:cNvPr id="383" name="3 Imagen" descr="playa.bmp"/>
          <p:cNvPicPr/>
          <p:nvPr/>
        </p:nvPicPr>
        <p:blipFill>
          <a:blip r:embed="rId2"/>
          <a:srcRect l="0" t="0" r="0" b="6924"/>
          <a:stretch/>
        </p:blipFill>
        <p:spPr>
          <a:xfrm>
            <a:off x="5572080" y="1643040"/>
            <a:ext cx="3333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2 Imagen" descr="spain.jpg"/>
          <p:cNvPicPr/>
          <p:nvPr/>
        </p:nvPicPr>
        <p:blipFill>
          <a:blip r:embed="rId1"/>
          <a:stretch/>
        </p:blipFill>
        <p:spPr>
          <a:xfrm>
            <a:off x="0" y="1004760"/>
            <a:ext cx="9144000" cy="4848480"/>
          </a:xfrm>
          <a:prstGeom prst="rect">
            <a:avLst/>
          </a:prstGeom>
          <a:ln w="0">
            <a:noFill/>
          </a:ln>
        </p:spPr>
      </p:pic>
      <p:sp>
        <p:nvSpPr>
          <p:cNvPr id="385" name="3 Rectángulo"/>
          <p:cNvSpPr/>
          <p:nvPr/>
        </p:nvSpPr>
        <p:spPr>
          <a:xfrm>
            <a:off x="3571920" y="5072040"/>
            <a:ext cx="642960" cy="285840"/>
          </a:xfrm>
          <a:prstGeom prst="rect">
            <a:avLst/>
          </a:prstGeom>
          <a:solidFill>
            <a:srgbClr val="f07f09">
              <a:alpha val="39000"/>
            </a:srgbClr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4 Imagen" descr="costa.jpg"/>
          <p:cNvPicPr/>
          <p:nvPr/>
        </p:nvPicPr>
        <p:blipFill>
          <a:blip r:embed="rId2"/>
          <a:stretch/>
        </p:blipFill>
        <p:spPr>
          <a:xfrm>
            <a:off x="0" y="1004760"/>
            <a:ext cx="9144000" cy="48484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14292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77200" indent="-19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000000"/>
                </a:solidFill>
                <a:latin typeface="Lucida Sans Unicode"/>
              </a:rPr>
              <a:t>Distribució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19404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194040">
              <a:spcBef>
                <a:spcPts val="400"/>
              </a:spcBef>
              <a:buClr>
                <a:srgbClr val="f07f09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194040">
              <a:spcBef>
                <a:spcPts val="400"/>
              </a:spcBef>
              <a:buClr>
                <a:srgbClr val="f07f09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194040">
              <a:spcBef>
                <a:spcPts val="400"/>
              </a:spcBef>
              <a:buClr>
                <a:srgbClr val="f07f09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194040">
              <a:spcBef>
                <a:spcPts val="400"/>
              </a:spcBef>
              <a:buClr>
                <a:srgbClr val="f07f09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19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5 Conector"/>
          <p:cNvSpPr/>
          <p:nvPr/>
        </p:nvSpPr>
        <p:spPr>
          <a:xfrm>
            <a:off x="4572000" y="4429080"/>
            <a:ext cx="71280" cy="71640"/>
          </a:xfrm>
          <a:prstGeom prst="flowChartConnector">
            <a:avLst/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6 Conector"/>
          <p:cNvSpPr/>
          <p:nvPr/>
        </p:nvSpPr>
        <p:spPr>
          <a:xfrm>
            <a:off x="4724280" y="4581360"/>
            <a:ext cx="71640" cy="71640"/>
          </a:xfrm>
          <a:prstGeom prst="flowChartConnector">
            <a:avLst/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7 Conector"/>
          <p:cNvSpPr/>
          <p:nvPr/>
        </p:nvSpPr>
        <p:spPr>
          <a:xfrm>
            <a:off x="5786280" y="4429080"/>
            <a:ext cx="71640" cy="71640"/>
          </a:xfrm>
          <a:prstGeom prst="flowChartConnector">
            <a:avLst/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8 Conector"/>
          <p:cNvSpPr/>
          <p:nvPr/>
        </p:nvSpPr>
        <p:spPr>
          <a:xfrm>
            <a:off x="6357960" y="4572000"/>
            <a:ext cx="71280" cy="71280"/>
          </a:xfrm>
          <a:prstGeom prst="flowChartConnector">
            <a:avLst/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9 Conector"/>
          <p:cNvSpPr/>
          <p:nvPr/>
        </p:nvSpPr>
        <p:spPr>
          <a:xfrm>
            <a:off x="6643800" y="4429080"/>
            <a:ext cx="71280" cy="71640"/>
          </a:xfrm>
          <a:prstGeom prst="flowChartConnector">
            <a:avLst/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10 Conector"/>
          <p:cNvSpPr/>
          <p:nvPr/>
        </p:nvSpPr>
        <p:spPr>
          <a:xfrm>
            <a:off x="4357800" y="4286160"/>
            <a:ext cx="71280" cy="71640"/>
          </a:xfrm>
          <a:prstGeom prst="flowChartConnector">
            <a:avLst/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15 Multiplicar"/>
          <p:cNvSpPr/>
          <p:nvPr/>
        </p:nvSpPr>
        <p:spPr>
          <a:xfrm>
            <a:off x="6572160" y="4214880"/>
            <a:ext cx="214560" cy="500040"/>
          </a:xfrm>
          <a:prstGeom prst="pie">
            <a:avLst/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16 Rectángulo"/>
          <p:cNvSpPr/>
          <p:nvPr/>
        </p:nvSpPr>
        <p:spPr>
          <a:xfrm>
            <a:off x="5500800" y="11430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981: 5 pob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Gr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7 Rectángulo"/>
          <p:cNvSpPr/>
          <p:nvPr/>
        </p:nvSpPr>
        <p:spPr>
          <a:xfrm>
            <a:off x="5286240" y="5000760"/>
            <a:ext cx="385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008: 5 pob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Granada y Mála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18 CuadroTexto"/>
          <p:cNvSpPr/>
          <p:nvPr/>
        </p:nvSpPr>
        <p:spPr>
          <a:xfrm>
            <a:off x="506520" y="335772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L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19 CuadroTexto"/>
          <p:cNvSpPr/>
          <p:nvPr/>
        </p:nvSpPr>
        <p:spPr>
          <a:xfrm>
            <a:off x="5008320" y="3143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357440" y="1481040"/>
            <a:ext cx="4329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Caméfito subarbustiv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Multiplicación vegetativa por acodo (ocasionalment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No regenera postfueg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Alógama polinizada por abej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Tasa germinación media semillas: 50%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Supervivencia plántulas invernadero ba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Buen desarrollo hasta fase adult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Variabilidad genética: niveles apreciables de diferenciación loc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2 Título" descr=""/>
          <p:cNvPicPr/>
          <p:nvPr/>
        </p:nvPicPr>
        <p:blipFill>
          <a:blip r:embed="rId1"/>
          <a:stretch/>
        </p:blipFill>
        <p:spPr>
          <a:xfrm>
            <a:off x="128520" y="-6480"/>
            <a:ext cx="8844120" cy="1195560"/>
          </a:xfrm>
          <a:prstGeom prst="rect">
            <a:avLst/>
          </a:prstGeom>
          <a:ln w="0">
            <a:noFill/>
          </a:ln>
        </p:spPr>
      </p:pic>
      <p:pic>
        <p:nvPicPr>
          <p:cNvPr id="401" name="3 Imagen" descr="r.tomentosus.jpg"/>
          <p:cNvPicPr/>
          <p:nvPr/>
        </p:nvPicPr>
        <p:blipFill>
          <a:blip r:embed="rId2"/>
          <a:stretch/>
        </p:blipFill>
        <p:spPr>
          <a:xfrm>
            <a:off x="642960" y="1500120"/>
            <a:ext cx="34192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28760" y="100008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cantilados y roquedos marinos (dolomías y mármoles) expuestos y de interi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pecies acompañantes: </a:t>
            </a:r>
            <a:r>
              <a:rPr b="0" i="1" lang="es-ES" sz="2700" spc="-1" strike="noStrike">
                <a:solidFill>
                  <a:srgbClr val="000000"/>
                </a:solidFill>
                <a:latin typeface="Lucida Sans Unicode"/>
              </a:rPr>
              <a:t>Asteriscus marítimus, Rosmarinus officinalis, Maytenus senegalensis subsp. europae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2 Título" descr=""/>
          <p:cNvPicPr/>
          <p:nvPr/>
        </p:nvPicPr>
        <p:blipFill>
          <a:blip r:embed="rId1"/>
          <a:stretch/>
        </p:blipFill>
        <p:spPr>
          <a:xfrm>
            <a:off x="-231840" y="-6480"/>
            <a:ext cx="8937720" cy="1195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2"/>
          <a:stretch/>
        </p:blipFill>
        <p:spPr>
          <a:xfrm>
            <a:off x="5429160" y="4070520"/>
            <a:ext cx="371484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928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nstrucción de carreter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rbanizacio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Turism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combrer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pecies exóticas invasor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ibridación con </a:t>
            </a:r>
            <a:r>
              <a:rPr b="0" i="1" lang="es-ES" sz="2700" spc="-1" strike="noStrike">
                <a:solidFill>
                  <a:srgbClr val="000000"/>
                </a:solidFill>
                <a:latin typeface="Lucida Sans Unicode"/>
              </a:rPr>
              <a:t>R. officinal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2 Título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8528040" cy="1158840"/>
          </a:xfrm>
          <a:prstGeom prst="rect">
            <a:avLst/>
          </a:prstGeom>
          <a:ln w="0">
            <a:noFill/>
          </a:ln>
        </p:spPr>
      </p:pic>
      <p:pic>
        <p:nvPicPr>
          <p:cNvPr id="407" name="3 Imagen" descr="torremaro1.jpg"/>
          <p:cNvPicPr/>
          <p:nvPr/>
        </p:nvPicPr>
        <p:blipFill>
          <a:blip r:embed="rId2"/>
          <a:stretch/>
        </p:blipFill>
        <p:spPr>
          <a:xfrm>
            <a:off x="3571920" y="1303200"/>
            <a:ext cx="4770360" cy="3578400"/>
          </a:xfrm>
          <a:prstGeom prst="rect">
            <a:avLst/>
          </a:prstGeom>
          <a:ln w="0">
            <a:noFill/>
          </a:ln>
        </p:spPr>
      </p:pic>
      <p:pic>
        <p:nvPicPr>
          <p:cNvPr id="408" name="4 Imagen" descr="20060219010418-autovia.jpg"/>
          <p:cNvPicPr/>
          <p:nvPr/>
        </p:nvPicPr>
        <p:blipFill>
          <a:blip r:embed="rId3"/>
          <a:stretch/>
        </p:blipFill>
        <p:spPr>
          <a:xfrm>
            <a:off x="3602160" y="1413000"/>
            <a:ext cx="5541840" cy="3857400"/>
          </a:xfrm>
          <a:prstGeom prst="rect">
            <a:avLst/>
          </a:prstGeom>
          <a:ln w="0">
            <a:noFill/>
          </a:ln>
        </p:spPr>
      </p:pic>
      <p:pic>
        <p:nvPicPr>
          <p:cNvPr id="409" name="5 Imagen" descr="DSCN0156.JPG"/>
          <p:cNvPicPr/>
          <p:nvPr/>
        </p:nvPicPr>
        <p:blipFill>
          <a:blip r:embed="rId4"/>
          <a:srcRect l="39063" t="38542" r="0" b="0"/>
          <a:stretch/>
        </p:blipFill>
        <p:spPr>
          <a:xfrm>
            <a:off x="3571920" y="857160"/>
            <a:ext cx="4911840" cy="3714840"/>
          </a:xfrm>
          <a:prstGeom prst="rect">
            <a:avLst/>
          </a:prstGeom>
          <a:ln w="0">
            <a:noFill/>
          </a:ln>
        </p:spPr>
      </p:pic>
      <p:pic>
        <p:nvPicPr>
          <p:cNvPr id="410" name="6 Imagen" descr="rosmofficinalis.jpg"/>
          <p:cNvPicPr/>
          <p:nvPr/>
        </p:nvPicPr>
        <p:blipFill>
          <a:blip r:embed="rId5"/>
          <a:stretch/>
        </p:blipFill>
        <p:spPr>
          <a:xfrm>
            <a:off x="5796000" y="1197000"/>
            <a:ext cx="305748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28760" y="928440"/>
            <a:ext cx="822960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fuerzo de las poblaciones de Almuñécar (Punta la Mona) y Nerja (Río Chíllar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2 Título" descr=""/>
          <p:cNvPicPr/>
          <p:nvPr/>
        </p:nvPicPr>
        <p:blipFill>
          <a:blip r:embed="rId1"/>
          <a:stretch/>
        </p:blipFill>
        <p:spPr>
          <a:xfrm>
            <a:off x="165240" y="-6480"/>
            <a:ext cx="8497800" cy="1158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0" y="1785960"/>
            <a:ext cx="5072040" cy="3963960"/>
          </a:xfrm>
          <a:prstGeom prst="rect">
            <a:avLst/>
          </a:prstGeom>
          <a:ln w="0">
            <a:noFill/>
          </a:ln>
        </p:spPr>
      </p:pic>
      <p:sp>
        <p:nvSpPr>
          <p:cNvPr id="414" name="4 Rectángulo"/>
          <p:cNvSpPr/>
          <p:nvPr/>
        </p:nvSpPr>
        <p:spPr>
          <a:xfrm>
            <a:off x="5143680" y="2214720"/>
            <a:ext cx="40003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Justificación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Existencia de poblaciones en peligro y con escaso número de indiv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3"/>
          <a:stretch/>
        </p:blipFill>
        <p:spPr>
          <a:xfrm>
            <a:off x="4703760" y="4643280"/>
            <a:ext cx="44402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General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Aumentar el tamaño poblacional de las dos localidades con menor número de individuos para asegurar su persistenci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Específic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Conseguir 300 individuos en 10 años en las dos poblaciones llegando a una tendencia poblacional estab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8" name="3 Imagen" descr="rosmarinustomentosus5.jpg"/>
          <p:cNvPicPr/>
          <p:nvPr/>
        </p:nvPicPr>
        <p:blipFill>
          <a:blip r:embed="rId2"/>
          <a:stretch/>
        </p:blipFill>
        <p:spPr>
          <a:xfrm>
            <a:off x="7000920" y="5226120"/>
            <a:ext cx="214308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7:07:58Z</dcterms:created>
  <dc:creator>pantera</dc:creator>
  <dc:description/>
  <dc:language>en-US</dc:language>
  <cp:lastModifiedBy>pantera</cp:lastModifiedBy>
  <dcterms:modified xsi:type="dcterms:W3CDTF">2009-04-24T11:08:25Z</dcterms:modified>
  <cp:revision>51</cp:revision>
  <dc:subject/>
  <dc:title>Diapositiva 1</dc:title>
</cp:coreProperties>
</file>